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95148"/>
        <c:axId val="99324850"/>
      </c:barChart>
      <c:catAx>
        <c:axId val="15395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24850"/>
        <c:crosses val="autoZero"/>
        <c:auto val="1"/>
        <c:lblAlgn val="ctr"/>
        <c:lblOffset val="100"/>
        <c:noMultiLvlLbl val="0"/>
      </c:catAx>
      <c:valAx>
        <c:axId val="99324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95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734-5910-4FD1-92F1-057B6159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CB4-6B88-454E-BDB7-31B99916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2B2F-C61A-4614-A83E-D262C022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3FD-DB0D-4F38-9446-F182597F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78A-1034-406B-AFD2-C8EC46FD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FCB-F338-41F3-8FFD-C489BF11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531-3B6E-4E35-822B-D15ACABD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EF3-7407-46F7-AF5B-CC67BE09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D3D-6B5E-41D3-9F59-A0820E75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603-5F51-45F4-B42D-38291301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0DF-B4E5-4047-8F23-D9F06AD3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6E7-B01D-4BAD-9E3B-C6EE9CC5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BE227-8B05-42CA-9652-C9A9946866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