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590708"/>
        <c:axId val="38617749"/>
      </c:barChart>
      <c:catAx>
        <c:axId val="435907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617749"/>
        <c:crosses val="autoZero"/>
        <c:auto val="1"/>
        <c:lblAlgn val="ctr"/>
        <c:lblOffset val="100"/>
        <c:noMultiLvlLbl val="0"/>
      </c:catAx>
      <c:valAx>
        <c:axId val="386177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5907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2A1E-3573-455C-80B3-781EDBCD5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6535-42DE-4A62-A3E0-F6243BB85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1F4C-9EDE-4799-AEAD-D92BF9907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CC68-3750-4C25-873D-2937E0694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ADD3-5DED-4355-B148-66A1A8EBD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3EB5-C50E-44D6-ADF0-8A3C637EB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1ED6-54DD-4724-8AA0-B491957C1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AD15-986B-4627-AAF0-3336DA23D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06F3-BD68-4721-B673-E45B826D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08BE-AD48-4E84-A7A2-DA0FD270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968B-8BDB-429E-813B-A2DADC48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D21F-2687-4E43-9D30-6BDBF0DF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22BD08-3DDE-4B64-93FC-95905895F8A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