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14462"/>
        <c:axId val="38117438"/>
      </c:barChart>
      <c:catAx>
        <c:axId val="90714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17438"/>
        <c:crosses val="autoZero"/>
        <c:auto val="1"/>
        <c:lblAlgn val="ctr"/>
        <c:lblOffset val="100"/>
        <c:noMultiLvlLbl val="0"/>
      </c:catAx>
      <c:valAx>
        <c:axId val="38117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14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2160-FE7A-44DB-9397-84F1BAB5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FEFD-E1FE-4603-8EA6-80A5D4B5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251-4FD0-4BFE-B080-9438A24C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BEB-78F1-4DE7-A242-8A001082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F7E-A042-4440-9E51-6C32C72C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B3C9-17DD-42E6-B075-8E5A55A8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B64B-C984-4DCE-ACCA-15629E9B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244-C928-40BC-9E39-4F6A1142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89F-D730-4ED2-8BAC-B2409C8B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A421-410C-468A-BCEB-E8920AD5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905-45D1-4CB6-B102-3EEE7595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34C-7CAB-4F3C-81B3-D1F30592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3915F-641E-45DC-B81B-D0BD87BA57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