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2881"/>
        <c:axId val="41712272"/>
      </c:barChart>
      <c:catAx>
        <c:axId val="20328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12272"/>
        <c:crosses val="autoZero"/>
        <c:auto val="1"/>
        <c:lblAlgn val="ctr"/>
        <c:lblOffset val="100"/>
        <c:noMultiLvlLbl val="0"/>
      </c:catAx>
      <c:valAx>
        <c:axId val="417122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28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D200-3E40-4534-80F7-17EC20DE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49E-A8C2-40CB-8ED9-27BBDBF6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091-6375-4DAC-8C5D-BFC71D2A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D4C9-008F-4728-9BDA-106A338B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D427-D605-420A-9A2B-D1C746DF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7757-6846-489D-9895-B7F66BE3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48E-FD83-4313-8ED3-8F027D4E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4FA9-1956-4F82-928C-E87DFBCF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20AF-14CD-42A0-A07D-AE9053B8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E130-303C-41C4-B22A-3264CB0D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4A89-F964-4C73-9B6C-04E7A269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728-1361-4F60-AEE5-5B48EA32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9FDE8-A369-4E74-A987-B6AD90A700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