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02687"/>
        <c:axId val="7555357"/>
      </c:barChart>
      <c:catAx>
        <c:axId val="29202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5357"/>
        <c:crosses val="autoZero"/>
        <c:auto val="1"/>
        <c:lblAlgn val="ctr"/>
        <c:lblOffset val="100"/>
        <c:noMultiLvlLbl val="0"/>
      </c:catAx>
      <c:valAx>
        <c:axId val="7555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02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07C-7B74-47ED-85D9-CE90C29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97C-9366-433F-9017-17F4AC5F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03F-8A3C-4C1A-BF81-24AE6B02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429-74A4-40C1-B785-AF5DFA43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5F5-7AFB-4CF4-83B0-782E8AE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296-D4AF-48CB-8365-77991E9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470-99D8-4B2A-9D46-4EB2289A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025-132D-4742-B875-174D59E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03A-766D-424C-A2DD-E3D7ABA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D77-0D5E-427A-B7BD-D587082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2AA-CD73-47F3-BAA3-FB30D5B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D00-37A6-4E3E-A264-73E94543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69674-AA5D-4B03-A6DC-5913D08B5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