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97688"/>
        <c:axId val="81401201"/>
      </c:barChart>
      <c:catAx>
        <c:axId val="26297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01201"/>
        <c:crosses val="autoZero"/>
        <c:auto val="1"/>
        <c:lblAlgn val="ctr"/>
        <c:lblOffset val="100"/>
        <c:noMultiLvlLbl val="0"/>
      </c:catAx>
      <c:valAx>
        <c:axId val="8140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7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7A3-E497-42EB-803C-A010AB17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CE9-38ED-4767-A11C-EA13AB09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178-A642-4E26-BE01-853F103F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991-368E-455A-8B5F-5FCE269C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797-C2EA-40A5-B894-5AFEEDA1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449-466E-4F53-8634-E9721495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7D6-294C-4577-8725-1F042F4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E1F-2802-4D53-8D27-9C6181D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1BF-442C-4A50-968A-B6C06779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828-77D8-4F30-84A6-B59B72C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835-5919-4FAE-B01E-AB3A785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D46-581C-4417-84CD-6D51AF7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5813B-3B73-48E6-9755-17F15F94A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