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45504"/>
        <c:axId val="66084236"/>
      </c:barChart>
      <c:catAx>
        <c:axId val="18045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84236"/>
        <c:crosses val="autoZero"/>
        <c:auto val="1"/>
        <c:lblAlgn val="ctr"/>
        <c:lblOffset val="100"/>
        <c:noMultiLvlLbl val="0"/>
      </c:catAx>
      <c:valAx>
        <c:axId val="66084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45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937-E2EE-4CC1-80C3-8958872C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3C3-13CE-459E-965E-63151EF7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E88-3E20-4178-B5BC-25122162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7A3-4460-453D-A0A4-288FF45A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396-5101-48F5-A07C-DDFE463B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E18-08E9-4F92-86A9-675DB6CD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0EC-EAEE-4438-87D0-18051F73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836-A8B1-4BCD-BDD6-29DD4D57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C89-3494-480A-83CB-AA093AA9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D71-015D-4CF1-B054-BD04F85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1CE-0D8F-42C8-AFF4-9B1CA28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52F-E5EE-41A6-A57D-BC0B148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33457-820C-4CD7-A621-91B850C7E4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