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4386"/>
        <c:axId val="31774696"/>
      </c:barChart>
      <c:catAx>
        <c:axId val="2004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74696"/>
        <c:crosses val="autoZero"/>
        <c:auto val="1"/>
        <c:lblAlgn val="ctr"/>
        <c:lblOffset val="100"/>
        <c:noMultiLvlLbl val="0"/>
      </c:catAx>
      <c:valAx>
        <c:axId val="31774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4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6E4-8800-47BE-AAAF-43CE45BB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177-46C4-450C-A96E-0D56E7F3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7AD-F055-441D-8997-D0F76468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2D0-4C7B-4EEF-AC65-C9D5C8BD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EA7-5398-4C20-A399-F6EFF376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A98-BA5C-4815-A124-CA7D9ABC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6B1-8FC8-4760-AE4D-62C71807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F01-3AE4-4E75-879A-C57EE332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4DE-B9FA-47BA-9268-62E65B88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6A4-BF98-4BBD-902B-2C8D5E19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665-69CA-4C47-89BD-0D478C60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094-0744-4EE8-B0A1-0D41FD63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540F1-3502-4816-BEA4-828F0FC301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