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92572"/>
        <c:axId val="35815036"/>
      </c:barChart>
      <c:catAx>
        <c:axId val="81192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5036"/>
        <c:crosses val="autoZero"/>
        <c:auto val="1"/>
        <c:lblAlgn val="ctr"/>
        <c:lblOffset val="100"/>
        <c:noMultiLvlLbl val="0"/>
      </c:catAx>
      <c:valAx>
        <c:axId val="35815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92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A5C-81CE-42B2-9CD5-CB9D2665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178-A4A3-4545-B31F-5902846F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F57-0BF2-4B37-B3DD-1329EF7C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19D-E969-46B7-A14E-5DF1064A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05C-CF24-4078-A156-E8B8E2E5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E49-8C59-4F0D-863C-60D7E435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FEC-F290-4021-975B-DA9F993F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881-049D-487F-8750-F40D440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8BB-0F18-45CC-A576-46DA565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A28-2F77-40D4-8D30-07D5F041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0C3-2BBF-42A4-9001-B67FF79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53E-3D20-45C3-8F3D-6F93ADD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A9318-E5F2-49D4-B776-57F518254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