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28290"/>
        <c:axId val="61647424"/>
      </c:barChart>
      <c:catAx>
        <c:axId val="64528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47424"/>
        <c:crosses val="autoZero"/>
        <c:auto val="1"/>
        <c:lblAlgn val="ctr"/>
        <c:lblOffset val="100"/>
        <c:noMultiLvlLbl val="0"/>
      </c:catAx>
      <c:valAx>
        <c:axId val="61647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28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45F3-DC85-46CE-9990-C8AA0A5F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60A-1B41-49D1-8AF9-536D5D35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170-56CC-4DDB-94B7-E4C28730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E2A-9BF4-4E0D-9EAC-747E01D9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27AD-48BC-479A-B117-225709BF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194-1861-43C3-B7AD-4A0CF383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886-FD6E-463F-A3E6-EB581810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7F9-8A0C-46BF-8600-AAD8F21D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65F-3DC1-48F5-B971-20E01B7A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C41-AACF-45E5-939D-C421272A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BB5-AB45-4F9B-BE48-5F401F3F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05AD-6C84-4A0E-9671-1EB7F2F0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736DF-2F46-415C-97D5-8CFE03A7A2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