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2734"/>
        <c:axId val="67415715"/>
      </c:barChart>
      <c:catAx>
        <c:axId val="7832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15715"/>
        <c:crosses val="autoZero"/>
        <c:auto val="1"/>
        <c:lblAlgn val="ctr"/>
        <c:lblOffset val="100"/>
        <c:noMultiLvlLbl val="0"/>
      </c:catAx>
      <c:valAx>
        <c:axId val="674157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2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792-6957-49D8-9AB6-004E6532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D55F-6E02-40DB-914A-0A3BF7D6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F4A-16F3-423B-B590-6FDC87F9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AD5-66F3-40C7-A634-59BA67B0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57FD-4CE4-4027-A760-E84CAB92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5A26-CECF-420B-9244-C5BEA4B3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5F3F-6EA3-4326-A2FD-E91FD6D1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E0F-7928-4D70-958E-4FF4062E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541E-18F9-4E69-834B-965B4663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9D24-8C64-4E39-A05E-09CE1B2F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4D8A-06B4-4498-A6B9-082F9138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EB1-3DDE-4D94-86DC-DA755919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D4BD4-6365-4CB5-9BBE-85B6DC83A4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