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63661"/>
        <c:axId val="58491420"/>
      </c:barChart>
      <c:catAx>
        <c:axId val="11663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1420"/>
        <c:crosses val="autoZero"/>
        <c:auto val="1"/>
        <c:lblAlgn val="ctr"/>
        <c:lblOffset val="100"/>
        <c:noMultiLvlLbl val="0"/>
      </c:catAx>
      <c:valAx>
        <c:axId val="58491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63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16A-0EF8-4547-A507-ED30AEC5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AC8-EB3B-487E-AAEE-5F24EC22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EAC-2982-478C-906E-78480AEB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5B4-5CC2-4B1E-AB17-8FEC3E78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0B3-28A0-420F-91EF-579972CC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EDE-25C2-4BCE-AE6E-9078F829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935-18F1-4E98-949C-045F56B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3B1-E71E-4FF4-BDC9-BB16348D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72F-794D-4E4A-9571-C14CC852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4C9-0ADA-41C0-B4F5-F0DB9A2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2E8-94D2-40BE-A071-446EC343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667-6423-4226-A523-9A64A47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3C06F-0CAA-4559-975F-69ABF1A3E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