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36650"/>
        <c:axId val="72184293"/>
      </c:barChart>
      <c:catAx>
        <c:axId val="58836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84293"/>
        <c:crosses val="autoZero"/>
        <c:auto val="1"/>
        <c:lblAlgn val="ctr"/>
        <c:lblOffset val="100"/>
        <c:noMultiLvlLbl val="0"/>
      </c:catAx>
      <c:valAx>
        <c:axId val="72184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36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ADB-7DE6-4368-BAE0-3EA95B61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B57-B3C6-4F61-BFF8-17D42278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486-4647-46D2-B2A0-C714D4D3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207-0B54-4E69-AD44-D7A011F0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369-7821-44B0-B192-FD324348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A95-B9B4-4582-A958-F9A2E6C6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761-42CD-4E51-8187-04C58790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0B3-B671-4950-8864-4610B911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88C-795E-4813-BF1F-7472059C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CA0-C32A-4430-913B-219CAC2E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E81-1EB4-49CB-9D24-333E189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CF0-86A8-40CD-91FE-2213120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B568-8FF6-4735-A5D5-09372B9801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