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95252"/>
        <c:axId val="28688442"/>
      </c:barChart>
      <c:catAx>
        <c:axId val="47795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88442"/>
        <c:crosses val="autoZero"/>
        <c:auto val="1"/>
        <c:lblAlgn val="ctr"/>
        <c:lblOffset val="100"/>
        <c:noMultiLvlLbl val="0"/>
      </c:catAx>
      <c:valAx>
        <c:axId val="28688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95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C22-4CDD-4581-8148-90F484ED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021-BE88-46AE-88F3-1260ADDF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643-C081-425F-9C77-94C63C26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21E-410B-4F5E-8DDB-4BD1F7D7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B2B-CDC5-425A-A73D-0FC5D06B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595-8A25-4DCC-B820-7F8D2DB6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8F3-DAC4-4632-9FFE-3DBDC0D8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DD1-7C2C-4671-B3C6-D57DF2C2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85B-8794-4B6B-B442-FF23EB8F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6FAC-E857-49E7-A3FC-B04B1D7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96F-9C69-487F-9E0F-F46E7F58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586-84CD-42AB-9548-8187B19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7662D-4EE2-4794-B240-EAF57507E8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