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78701"/>
        <c:axId val="1444753"/>
      </c:barChart>
      <c:catAx>
        <c:axId val="18787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4753"/>
        <c:crosses val="autoZero"/>
        <c:auto val="1"/>
        <c:lblAlgn val="ctr"/>
        <c:lblOffset val="100"/>
        <c:noMultiLvlLbl val="0"/>
      </c:catAx>
      <c:valAx>
        <c:axId val="14447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87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41F1-5C6F-45D8-BA91-BA505104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E5F1-852A-4124-81AC-07710CA8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7723-58FC-466E-BAA9-DE3FEC4F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9F9A-B583-4D9E-873E-A15B2526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E707-4CBE-45FD-85C3-D5C517B3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C01C-CA82-411D-8AE6-0A3D41C9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3A9E-B084-4D8D-AE63-CAFD7B6B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1D9E-99EF-46ED-B8F0-3277600C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3CE4-9985-4092-BCDB-3B317636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5C72-4521-4044-8D31-A3A750F2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587D-7DB0-4685-BA96-B97DE95D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07DD-AEED-4C8B-A099-689259D5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34144-6BB2-45CF-A75A-BE468C01D6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