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76556"/>
        <c:axId val="14679472"/>
      </c:barChart>
      <c:catAx>
        <c:axId val="29376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79472"/>
        <c:crosses val="autoZero"/>
        <c:auto val="1"/>
        <c:lblAlgn val="ctr"/>
        <c:lblOffset val="100"/>
        <c:noMultiLvlLbl val="0"/>
      </c:catAx>
      <c:valAx>
        <c:axId val="14679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76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C95-A83B-407D-800D-2372F8C8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8C5-26A4-4BD5-B9AD-C86B8215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323-1E24-4BED-9D2F-FD80295F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478-C072-49CA-9707-BC35CBD9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12F-1F86-42D5-9380-791D5B95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7A4-6ED7-4F40-A961-4ABCA4FC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994-A67C-4C35-B8A1-D0E1A489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670-0841-4DEB-B7D3-4B2105CF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87E-52DC-4DEC-BAD6-420D2EA6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361-4FBF-4244-8E1C-9C48609B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80B-5EFF-4C5D-B356-4A864F3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22E-DF04-463D-B163-B77E1DDD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C8CE2-95F6-4C93-9F9F-37655E8AD1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