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14719"/>
        <c:axId val="65840329"/>
      </c:barChart>
      <c:catAx>
        <c:axId val="63514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40329"/>
        <c:crosses val="autoZero"/>
        <c:auto val="1"/>
        <c:lblAlgn val="ctr"/>
        <c:lblOffset val="100"/>
        <c:noMultiLvlLbl val="0"/>
      </c:catAx>
      <c:valAx>
        <c:axId val="65840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14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849-29EC-45FE-93E8-01F31471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CAC-D8D9-4DFC-B1C1-AB667233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0DB-54EC-4517-98B6-6EA2F8F4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E7B-83CC-48F4-AA27-AB02BC9E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A65-3E08-4318-87A9-FF66BE5F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D8C-49F7-4041-A403-952BACBF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324-9C1E-44D9-9DCA-707A3F29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B684-8085-4B51-B08E-7261F363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4EF-08D8-4AC0-A64C-5BB42A33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A78-9330-4E3A-A749-F27C3830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8CF-C3E0-4D63-A957-59F7F3AA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FAE-CB69-4A5F-B5A3-A917FE0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85593-78DD-4EB0-8B07-DE4AB98A9A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