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379047"/>
        <c:axId val="46224798"/>
      </c:barChart>
      <c:catAx>
        <c:axId val="843790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224798"/>
        <c:crosses val="autoZero"/>
        <c:auto val="1"/>
        <c:lblAlgn val="ctr"/>
        <c:lblOffset val="100"/>
        <c:noMultiLvlLbl val="0"/>
      </c:catAx>
      <c:valAx>
        <c:axId val="462247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3790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F659-405E-4134-92F2-C5624D3AC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E357-7093-44F2-A2FC-159E462F4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C4A1-D4CB-4CED-A93C-DAA43B2D2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999B-ECE4-452C-AD2A-FFB9A73C3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F7B9-9A64-40A0-8266-4C94E5CF9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7314-BB27-4E4E-982C-007CC8C25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82AD-548E-4FCB-9565-19AA444E8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0247-DCB5-46B4-BDB0-756B0FD44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396A-B297-4445-9CF9-04DD2C8FF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5737-64C5-4A49-A8A0-F8313DB1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900D-A628-410C-9662-A052D47E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E4E2-EE79-4216-935B-47A10D57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CF7CA8-26C6-410E-9005-5E701B7C620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