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65475"/>
        <c:axId val="36915960"/>
      </c:barChart>
      <c:catAx>
        <c:axId val="87065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15960"/>
        <c:crosses val="autoZero"/>
        <c:auto val="1"/>
        <c:lblAlgn val="ctr"/>
        <c:lblOffset val="100"/>
        <c:noMultiLvlLbl val="0"/>
      </c:catAx>
      <c:valAx>
        <c:axId val="36915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65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C27-16BB-4E15-B405-60377145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685-B67D-4A7D-8052-5369A27B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86B-C02F-4D85-ADD7-0B44C827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A1E-DAEA-4E9D-B08F-CE44DE32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9A2-3536-4BC6-8A9A-E838E73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DEA-7C7A-4D8E-B7FE-0E3AFD87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687-F368-47C3-8871-BAE5C5A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7C7-C08F-49C8-A430-C68C7A8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C0C-D300-4B5F-8536-7457EDD5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25B-D1E9-4458-8683-01AD0AD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5EA-A49F-4D7F-8180-5C002AFB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3DC-B407-4DA7-B058-B959B5BC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0253B-DBC8-455C-925B-D9360D828F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