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04288"/>
        <c:axId val="83347734"/>
      </c:barChart>
      <c:catAx>
        <c:axId val="23404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47734"/>
        <c:crosses val="autoZero"/>
        <c:auto val="1"/>
        <c:lblAlgn val="ctr"/>
        <c:lblOffset val="100"/>
        <c:noMultiLvlLbl val="0"/>
      </c:catAx>
      <c:valAx>
        <c:axId val="83347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04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1EA-2F1C-4B69-88C6-A1791755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288-86D6-4FA5-ABE9-0CF4724D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C1E-6C8F-42C0-8A8E-FD27585B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5F5-D76F-4CEF-AEE9-1D907D96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B9F-070A-441F-9848-E6C88CA5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180-5419-4722-B447-451C833E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4E6-2E4F-4ADA-9CCC-F2B6821F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891-9450-4EC1-A62C-CD8CE8AD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959-43BA-4D3A-A198-EEA654E0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A18-5168-4E20-AD72-D3697DB0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53D-AAD4-4EC5-982B-66F4DC5B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405-C8C4-475D-A798-4938CE31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9B056-0ECF-43BB-96C7-FEF474B0F8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