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46134"/>
        <c:axId val="2968713"/>
      </c:barChart>
      <c:catAx>
        <c:axId val="16246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8713"/>
        <c:crosses val="autoZero"/>
        <c:auto val="1"/>
        <c:lblAlgn val="ctr"/>
        <c:lblOffset val="100"/>
        <c:noMultiLvlLbl val="0"/>
      </c:catAx>
      <c:valAx>
        <c:axId val="2968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46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667-1406-46D6-8C00-3EBC805C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7ED-BA8E-4B7B-9001-D593967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E22-2FF8-43BB-9918-115BE7FC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614-FEFD-4A03-8616-862954A3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4B6-FC63-40DB-93B5-C135BA9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66C-251D-4E7E-A96E-7976EB4D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E1F-882A-4793-B92A-21E0DD8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035-9DAB-41E2-BB76-6AD34099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1FA-088A-4DDB-B81E-F28B83D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9F1-1FA4-4354-8BD8-8C92741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602-B23A-440C-BAA2-4A90EFD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F6-B54D-463F-BB06-C8AB160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C2F11-35CE-44F7-A269-EBBEC3084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