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29442"/>
        <c:axId val="8242748"/>
      </c:barChart>
      <c:catAx>
        <c:axId val="41429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2748"/>
        <c:crosses val="autoZero"/>
        <c:auto val="1"/>
        <c:lblAlgn val="ctr"/>
        <c:lblOffset val="100"/>
        <c:noMultiLvlLbl val="0"/>
      </c:catAx>
      <c:valAx>
        <c:axId val="8242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29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040-DDBD-4F90-9E0E-38518981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3BB-48F7-4037-A730-ED3B5A88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A5A-A09C-4D2B-A17B-E16491BE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054-1D0A-4331-AC7E-EB9B7E40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74D-F9A5-493C-8471-177F815B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BD1-6086-41A2-AB9C-275AC337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32E-BFF8-415C-8672-01082BF0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31F-1255-43DB-A3A7-38785372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A02-AFE6-45A2-82CC-B068197E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DB7-00C5-426C-8FC6-44332BB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F0B-DA87-4E8F-BC31-EB22665A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E37-A943-4575-83A8-2A9FFF5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7B7B7-86C4-420A-8DBB-30EB9A5C2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