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1899"/>
        <c:axId val="30105100"/>
      </c:barChart>
      <c:catAx>
        <c:axId val="6101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05100"/>
        <c:crosses val="autoZero"/>
        <c:auto val="1"/>
        <c:lblAlgn val="ctr"/>
        <c:lblOffset val="100"/>
        <c:noMultiLvlLbl val="0"/>
      </c:catAx>
      <c:valAx>
        <c:axId val="30105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1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E55-7182-4AE1-91C0-734EDDBB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0C2-77A0-4EAE-B9FB-1AB4977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36A-E229-4E68-9B7F-43987C8B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A51-4DBA-46B6-9596-7F746DC4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5BB-4E51-42D0-B872-6365D93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A82-EC69-428B-AF46-7CAD82F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973-A598-41D6-A4BE-5F48E32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CC1-268C-409C-94DE-837AE9A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95D-68D7-4C94-BFF1-B8674CC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54A-6D78-4B5C-B452-D7E8E09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3ED-7BAA-4204-98CE-993EAD8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FAF-6B69-43E0-B031-F333F5A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C6162-A924-416E-BFED-401C2844F0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