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334787"/>
        <c:axId val="87150382"/>
      </c:barChart>
      <c:catAx>
        <c:axId val="93334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50382"/>
        <c:crosses val="autoZero"/>
        <c:auto val="1"/>
        <c:lblAlgn val="ctr"/>
        <c:lblOffset val="100"/>
        <c:noMultiLvlLbl val="0"/>
      </c:catAx>
      <c:valAx>
        <c:axId val="87150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34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188-4C69-4229-9F43-06BB15B4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7A8-1927-494F-9FE4-D12B6F24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41B-92CC-4559-B55E-597CDBA3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9A3E-AEFA-4A45-9349-A2D9B874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826-F888-49C9-AADD-8CBCD356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AFC-E956-4E9B-9D53-4B210DFF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22D-9E88-4C34-B937-925E3705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E61-87D0-4F30-95DA-22D29FF8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54A4-1D6F-4A52-AECE-A57218CC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E5CE-C53D-41AE-B4F6-BCB89B04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D415-37B8-4F6B-937F-7184ACC5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7D01-F0A0-48FD-8D8A-D220ED91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CF646-D740-44DC-B0F5-B37379516D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