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C175D49-90D5-49A9-A5C5-1504348076C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9D1D825B-8A97-49C5-9CA4-E584D0E71F3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573B05EE-D51B-4AE4-8620-CB7EC9A1074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4BA33289-89B2-4C1B-9E92-F04300B55D6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CD412A0E-E963-4D0E-9FAD-879EF838D01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A6B046-86B8-439C-BC72-F028F179071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E91E8E5D-4A76-4AC9-ADB0-53025632392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7EFCE764-ED77-4E14-B0D9-FBC2A08A785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9EB4FB65-E32A-4687-BA39-1FFD877D621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2753DFB-2479-491C-BC45-B670DE0E19F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561693D-2F39-4D29-9377-461F72C575C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990859A-45C0-4D6B-898C-F7428DB4B10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04056A-E82B-4C5B-9D12-3C0CC227F9D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2C6A8C-A699-41DD-946C-B9B390FA9C8A}"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8656DCB-0F84-4154-82A3-5413D8B4B52E}"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FFA2849-A6B7-4EF8-870F-C07E6445BDB9}"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AB80A14-8028-48EA-8916-00BE0CC01FA2}"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5ACEEB-34F1-45FA-A9CD-1642A0AFA0D3}"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7C4F32-86D0-4615-B59B-7D443A15596C}"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7DFE771-4D99-4013-9530-1AE9AA53CB53}"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67D4E6-A1D4-49E4-B946-C552AC89124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8DDF7C-FC44-4426-9A39-97823F8827C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8D7E3CE-DB91-46EA-8D05-849349BED0B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0C1AE1-90EB-4FB5-BBCD-66BAAC80FBB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E233071-CFEF-4461-ABA6-7B11426EF86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DC6F7C8-5047-48C7-8DC8-E221BFAA366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56CCC43-C341-4669-9B9A-DF7ADE6C8D3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78E9DF-302E-4CB9-901B-932B177A0BF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6D1E721-A253-4E1E-AF08-0FA17C72741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0761BF0-1D1A-49F9-9801-EF07CC037B4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3B1F1D-EA98-4BC1-918B-52BEEA853F0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F5EADF-67CB-48D8-9D5E-7257F32B8CD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8A0862-232D-4B30-8B30-8D7B569B888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11CBF8F-D56F-45F1-BB07-C91BE017F4E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1B7E519-4AFB-4B54-947F-58CDCBDB1D0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0478765-26EF-43E5-A1EE-CCCADCEFC2E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7F537EF-A939-42F3-BF07-695379D43F5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C51CFC-9B98-4673-85FE-68AEBD1D6BB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A42F3CF-8145-48A6-9852-F3BB186D485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E8C05B1-B163-4B32-910B-B70D6A55411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1663F5-D590-4EA7-B85C-0D03E3251F5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25E5F37-A0AB-4F21-9183-0F7CBF6F071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0E1757-1676-4488-8140-4B1CB3D48CF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7129622-F33A-4BB3-85BF-1C7341A7DB3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8CFDDA-08E4-424B-B3DC-FF33EDAF008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5C7363E-A462-4D0C-986A-8199C3650677}"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7D4970-1A37-40C9-99BB-1D814D788E8C}"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F801401-D431-4157-8B29-7411C781F9E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D9E33A0-C1C7-45BC-96CF-EDDB9557014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13D1E6-B091-4684-AE69-E10ED3368265}"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5FB73A79-9FEB-45A5-9087-625DE03774BA}"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CE3F41-B241-40EA-9BA9-B55FD74504E2}"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53E3BD-6A90-4B54-B430-79A1042CB327}"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F23C7D-596A-45ED-8A56-F65C9D96E1DF}"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40C685-3EC9-46BD-8B7D-4D732807F7A7}"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3C362CC-AA57-42C9-A4D5-6008B7A1B9C9}"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7E5EF2-23CD-4265-80A9-2B698BFD715C}"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C03F22-21E1-42D7-BA14-6C3460D2BA64}"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A382566-7293-4EAA-BD3D-369E1901AAFD}"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538564-3310-4333-B38E-25B02CFCC74E}"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B5E740E0-7060-4267-99D5-10478FD297C4}"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2F703D5-EED7-435F-8CC0-1E518F2F21A5}"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CAE219D-0467-4852-B00A-9A6041300EFC}"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CCE8D0-51A8-4F47-BC3A-228C6B6343F4}"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AB3004-5637-4EB8-81B7-9798A827D78B}"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0CA6B0C-D4F0-4255-9F9B-4679459E8131}"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4787B9-A619-4608-8F67-0EB0E15EBFC6}"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D81FD4-CBA8-48E2-A518-1FD0CDCF4501}"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97B9167-4158-4F4E-A295-0A96CFD674A0}"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0BEE89-B02D-474D-BD05-3A71DA09D54B}"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F06353-A6E2-4001-9EE8-DAF045425EB0}"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C5BD9E00-8098-4CD7-89BD-E6993F797063}"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89197EF-1844-4E1D-B82A-6527CA72BFCE}"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8B24F2-4526-4246-B1F1-4982E6E9AFA7}"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268D9F-9E55-4A6B-8CBF-7914B0E23055}"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00628E7-85B4-41B2-A03F-37FE255D0B26}"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4F5B0CB-8D83-420D-BE65-CE28272235F7}"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0A8E70-312C-453E-A2EF-F11684778A14}"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23C0ED-1C26-4D5F-8BA8-92E15CED688F}"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F80657C-6621-4727-8F83-113FE76C06AB}"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2FFAAA-1A30-4F2B-8143-11DAE7978CAE}"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918C44-4875-4349-97C0-041EF9151F05}"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87A9AD-A5DA-486F-B14F-E1587F34F5E6}"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64EFD19-2AA3-46F2-830C-A60049B82383}"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17B48A-71BB-4F91-95FA-D3C0249DB5BD}"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D0F6982-7A85-406D-9F1D-5A318C92EE4D}"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98B6E67-9D35-4BB4-8648-D7699D7EC596}"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D0F2D1-E804-4503-995E-8E46D0536F60}"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0E3A3A4-A037-4298-8829-E6F0525DCBE3}"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74D310-FF08-4D2D-920E-D5ADF74EC244}"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B42A232-9F1C-4659-A5DE-4CDB8A82FEAD}"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5F545F-0B3A-4519-BC50-B11BC59FAAE8}"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B98A366-ECE7-4911-A35C-F43FED7AC616}"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A22797-B1D6-482B-A491-6794ED3358ED}"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A6D49A-0E9E-4BDD-9560-7AAFE5E6A815}"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76FF9E-C17C-4393-A3BA-484C5078A132}"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CB0E09-983B-41AC-8AC3-C32855A10B7E}"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F9BDC6E-AF59-411D-9554-1A9D25C295EB}"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6EBA47-7FE9-45D7-A945-D4901E224ACB}"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07AD07-737F-43E0-A1FF-B01341438BFB}"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B6B2697-BCD5-43B4-AB6B-8588334C6796}"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B2AF5A-4D12-4A3E-B469-217456923DBF}"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7485970-8CCF-48AE-A031-C0FFC29FACA8}"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AD29FD-5F46-4847-B2AE-D2788476A2B3}"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1369370-6623-4EF3-A37C-D80872F6275B}"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4979B5-53F1-44E3-B54C-EECFB7A029DE}"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FF320A-968C-4D45-8419-42174600EDD4}"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8104E25-C9A3-4347-8EE0-DB2D254447FC}"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41DA1C-C998-459A-9E7D-9291E88CEA4B}"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A41C23-DC3C-4B2E-A72F-9E95F0E4487F}"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7BB8B7-E94D-42F3-9149-B379187F10FC}"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B68ADDA-A4B0-4017-AECF-9DD30F1B2661}"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0139FF-C712-486B-8A50-FC0BD6FCF3CD}"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E8A4E85-AB2F-4C09-A016-71067BEF2F93}"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2ACD7CC-3232-43B8-A270-7123022F5E02}"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3DFD62-CF40-4A6B-A315-3B2367037B27}"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485AFA7-EF2E-4682-9108-D576A2EE5CA9}"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